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3302-CA50-4C17-BE35-CF4FEDE4C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EB70-0E6B-480E-8A0F-C7D516B05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F715-63ED-45E9-9448-1DC689586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6FAF-B7D1-441D-AC84-048B738CD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7569-63A9-4A71-A64E-111C6B01A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29F2-92AB-4D3E-ABFB-C8038E472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B40E-6287-4EA5-B9EF-BA233C5E3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0845-181B-4673-BFC2-060E16F2B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128A-0101-4170-AD71-4508B016B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B0F5-E27C-407C-96D6-6962CE67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64DC-81B5-4AE9-A433-ED54FAE8F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BB17-1DA8-46EE-A3D3-08FA6E417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E27F9-5502-4D67-A2CC-F9F002F164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064040" y="1200240"/>
            <a:ext cx="1422360" cy="100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23880" y="2286000"/>
            <a:ext cx="6299280" cy="32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NE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ITED STATES ARM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LDIER SUPPORT INSTITU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 Flow of Personnel 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ENT HAND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8600" y="276120"/>
            <a:ext cx="6934320" cy="65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8600" y="60480"/>
            <a:ext cx="8915400" cy="65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6T14:11:56Z</dcterms:created>
  <dc:creator>mike.a.williams</dc:creator>
  <dc:description/>
  <dc:language>en-US</dc:language>
  <cp:lastModifiedBy>Administrator</cp:lastModifiedBy>
  <dcterms:modified xsi:type="dcterms:W3CDTF">2005-08-15T18:10:46Z</dcterms:modified>
  <cp:revision>3</cp:revision>
  <dc:subject/>
  <dc:title>Slide 1</dc:title>
</cp:coreProperties>
</file>